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219456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BCC7-0277-496C-9070-772BEFB2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73D1-85A8-44A2-A831-491BF7A01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32B-A78A-4EDD-813A-7BB4F734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321740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12E-D196-499B-9198-EFB4E3E8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D2A-62D9-4D64-BF69-4ACDDA8A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831-0DFE-4F44-B938-3ACC43DB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56C-BEAF-46F4-B68E-EAE20581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949-5367-41A8-84D8-693FB580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87A-3E2B-4832-ABBB-FFBD3389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7A7-607C-42C5-9C16-9B7FDCA1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1951200"/>
            <a:ext cx="186530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9D1-A5C5-4954-8AAB-4836AF5E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919-4AE8-4A82-891A-38C94CD6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375-8747-4E1A-ADA8-BE09D796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BF3-5E48-4F77-8D83-7003627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marL="939960" indent="-9399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1" marL="2038320" indent="-78408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2" marL="3135240" indent="-62712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3" marL="4389480" indent="-62712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4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5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6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19994400"/>
            <a:ext cx="457200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19994400"/>
            <a:ext cx="695016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19994400"/>
            <a:ext cx="457200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2325-FD61-4C2A-8E35-952C26CDD349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5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7" descr=""/>
          <p:cNvPicPr/>
          <p:nvPr/>
        </p:nvPicPr>
        <p:blipFill>
          <a:blip r:embed="rId1"/>
          <a:stretch/>
        </p:blipFill>
        <p:spPr>
          <a:xfrm>
            <a:off x="4071960" y="-1243080"/>
            <a:ext cx="8461440" cy="649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649404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c000"/>
                </a:solidFill>
                <a:latin typeface="Arial"/>
              </a:rPr>
              <a:t>N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2054960" y="1112508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17465400" y="586728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3300"/>
                </a:solidFill>
                <a:latin typeface="Arial"/>
              </a:rPr>
              <a:t>S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11" descr=""/>
          <p:cNvPicPr/>
          <p:nvPr/>
        </p:nvPicPr>
        <p:blipFill>
          <a:blip r:embed="rId2"/>
          <a:stretch/>
        </p:blipFill>
        <p:spPr>
          <a:xfrm>
            <a:off x="9497880" y="-1231920"/>
            <a:ext cx="8442360" cy="6473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2"/>
          <p:cNvSpPr/>
          <p:nvPr/>
        </p:nvSpPr>
        <p:spPr>
          <a:xfrm>
            <a:off x="1234800" y="579132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cc3300"/>
                </a:solidFill>
                <a:latin typeface="Arial"/>
              </a:rPr>
              <a:t>P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2134520" y="5867280"/>
            <a:ext cx="36187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cc99ff"/>
                </a:solidFill>
                <a:latin typeface="Arial"/>
              </a:rPr>
              <a:t>M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7551000" y="5791320"/>
            <a:ext cx="132660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92d050"/>
                </a:solidFill>
                <a:latin typeface="Arial"/>
              </a:rPr>
              <a:t>I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17616600" y="11049120"/>
            <a:ext cx="27014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b0f0"/>
                </a:solidFill>
                <a:latin typeface="Arial"/>
              </a:rPr>
              <a:t>L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17619120" y="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1312200" y="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9999"/>
                </a:solidFill>
                <a:latin typeface="Arial"/>
              </a:rPr>
              <a:t>U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1309680" y="11125080"/>
            <a:ext cx="27014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9900"/>
                </a:solidFill>
                <a:latin typeface="Arial"/>
              </a:rPr>
              <a:t>Z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19" descr=""/>
          <p:cNvPicPr/>
          <p:nvPr/>
        </p:nvPicPr>
        <p:blipFill>
          <a:blip r:embed="rId3"/>
          <a:stretch/>
        </p:blipFill>
        <p:spPr>
          <a:xfrm>
            <a:off x="4114800" y="9820440"/>
            <a:ext cx="7985160" cy="6473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0"/>
          <p:cNvSpPr/>
          <p:nvPr/>
        </p:nvSpPr>
        <p:spPr>
          <a:xfrm>
            <a:off x="1739052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ff99"/>
                </a:solidFill>
                <a:latin typeface="Arial"/>
              </a:rPr>
              <a:t>R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205640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1309680" y="16851240"/>
            <a:ext cx="27014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7030a0"/>
                </a:solidFill>
                <a:latin typeface="Arial"/>
              </a:rPr>
              <a:t>F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7394480" y="16851240"/>
            <a:ext cx="4075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7030a0"/>
                </a:solidFill>
                <a:latin typeface="Arial"/>
              </a:rPr>
              <a:t>W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7543880" y="11277720"/>
            <a:ext cx="33901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1979000" y="1127772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3300"/>
                </a:solidFill>
                <a:latin typeface="Arial"/>
              </a:rPr>
              <a:t>X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1977920" y="16851240"/>
            <a:ext cx="27014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33ccff"/>
                </a:solidFill>
                <a:latin typeface="Arial"/>
              </a:rPr>
              <a:t>T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870960" y="11201400"/>
            <a:ext cx="24757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00ff"/>
                </a:solidFill>
                <a:latin typeface="Arial"/>
              </a:rPr>
              <a:t>J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664632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b050"/>
                </a:solidFill>
                <a:latin typeface="Arial"/>
              </a:rPr>
              <a:t>H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234800" y="1135368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9900"/>
                </a:solidFill>
                <a:latin typeface="Arial"/>
              </a:rPr>
              <a:t>V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115992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3399"/>
                </a:solidFill>
                <a:latin typeface="Arial"/>
              </a:rPr>
              <a:t>A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15" descr=""/>
          <p:cNvPicPr/>
          <p:nvPr/>
        </p:nvPicPr>
        <p:blipFill>
          <a:blip r:embed="rId1"/>
          <a:stretch/>
        </p:blipFill>
        <p:spPr>
          <a:xfrm>
            <a:off x="9448920" y="4638600"/>
            <a:ext cx="8210520" cy="6473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6570000" y="594360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3:33:49Z</dcterms:created>
  <dc:creator>Karen Reynolds</dc:creator>
  <dc:description/>
  <dc:language>en-US</dc:language>
  <cp:lastModifiedBy>kdowns</cp:lastModifiedBy>
  <dcterms:modified xsi:type="dcterms:W3CDTF">2007-10-18T19:35:22Z</dcterms:modified>
  <cp:revision>17</cp:revision>
  <dc:subject/>
  <dc:title>PowerPoint Presentation</dc:title>
</cp:coreProperties>
</file>